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4445-6F4F-4EAE-960F-CD36AB04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9B67-7073-4542-89B4-722251F53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3B48-F6A9-41E1-8AA6-01CCBDBD0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C5CB-6ED4-4B93-8877-5743359BE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8C15-C334-44E1-B4B5-351D944DB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4495-300B-4F28-A343-84BEF720C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9D26-2648-4041-ADA8-143DC260B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3AE0-8CC7-4EE4-967F-16B80EBDD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BC5F-0020-4CD6-9F30-A15004320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3A7F-F057-443B-8FC4-F31DCF965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3DB5-5495-4280-BC1C-EC866536D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E97-99E8-4400-8639-1984723CA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C7E-CCD0-41E8-9CF3-FC260159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764-6565-471B-9E66-ECFED8ED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571-BC56-48CF-9B6A-C2B1CD28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946-4C08-482D-955E-2B00CC47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80E-E3AA-4950-BE3C-D1E39401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053-4C04-441C-860D-487DD7A2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779-7A1A-490D-AC30-2D4586D8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B8A-5B24-4D0A-A43F-FF348E0B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3FF-AF6B-4A6A-B305-B62957E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813-0630-41EC-8314-D41DE70E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A00-75C4-457C-9804-7FC397F1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064-0EB5-4C71-AA46-19D2C32C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80E3-7FEB-428A-94A3-3A2B25C93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8"/>
          <p:cNvSpPr/>
          <p:nvPr/>
        </p:nvSpPr>
        <p:spPr>
          <a:xfrm>
            <a:off x="3419640" y="3860640"/>
            <a:ext cx="572436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 to SAR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 Martyn J. Dav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, Centre for Chinese Studies,                             CEO, Emerging Market Focus,                                                             Senior Lecturer, Gordon Institute of Business 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arch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71"/>
          <p:cNvSpPr/>
          <p:nvPr/>
        </p:nvSpPr>
        <p:spPr>
          <a:xfrm>
            <a:off x="168120" y="46080"/>
            <a:ext cx="790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3"/>
          <p:cNvSpPr/>
          <p:nvPr/>
        </p:nvSpPr>
        <p:spPr>
          <a:xfrm>
            <a:off x="168120" y="46080"/>
            <a:ext cx="790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5"/>
          <p:cNvSpPr/>
          <p:nvPr/>
        </p:nvSpPr>
        <p:spPr>
          <a:xfrm>
            <a:off x="168120" y="46080"/>
            <a:ext cx="790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8"/>
          <p:cNvSpPr/>
          <p:nvPr/>
        </p:nvSpPr>
        <p:spPr>
          <a:xfrm>
            <a:off x="1979640" y="54936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China’s Growth: Implications for Poverty Reduction in SAD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3" descr="CCS Logo High Res 2"/>
          <p:cNvPicPr/>
          <p:nvPr/>
        </p:nvPicPr>
        <p:blipFill>
          <a:blip r:embed="rId1"/>
          <a:stretch/>
        </p:blipFill>
        <p:spPr>
          <a:xfrm>
            <a:off x="0" y="2133720"/>
            <a:ext cx="59245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4800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China’s “Marketized”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85800" y="990720"/>
            <a:ext cx="2743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e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to foreign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state invol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324480" y="106668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ment contro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 to foreign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/no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ate invol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09480" y="281952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Real e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066680" y="2209680"/>
            <a:ext cx="1600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ght industrial manufactu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133720" y="1981080"/>
            <a:ext cx="1714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sumer electroni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124080" y="2514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lectronics, telecom equip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600200" y="4572000"/>
            <a:ext cx="1600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arel, texti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657600" y="4495680"/>
            <a:ext cx="1714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holesale/retail trade, catering servi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800600" y="2895480"/>
            <a:ext cx="1028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utomo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867280" y="2819520"/>
            <a:ext cx="1371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Radio, film, T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019920" y="2362320"/>
            <a:ext cx="1485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inance, insur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7620120" y="2209680"/>
            <a:ext cx="1257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overnment agenc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662940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ostal, telecom servi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9"/>
          <p:cNvSpPr/>
          <p:nvPr/>
        </p:nvSpPr>
        <p:spPr>
          <a:xfrm>
            <a:off x="4038480" y="4876920"/>
            <a:ext cx="1600200" cy="16002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20"/>
          <p:cNvSpPr/>
          <p:nvPr/>
        </p:nvSpPr>
        <p:spPr>
          <a:xfrm>
            <a:off x="2895480" y="5181480"/>
            <a:ext cx="1028880" cy="990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1"/>
          <p:cNvSpPr/>
          <p:nvPr/>
        </p:nvSpPr>
        <p:spPr>
          <a:xfrm>
            <a:off x="2057400" y="5257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4572000" y="651528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5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124080" y="624852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5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2057400" y="60958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152280" y="5486400"/>
            <a:ext cx="19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ize of circle indicates sector’s contribution to G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457200" y="53496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457200" y="53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5334120" y="3429000"/>
            <a:ext cx="3809880" cy="685800"/>
          </a:xfrm>
          <a:prstGeom prst="rightArrow">
            <a:avLst>
              <a:gd name="adj1" fmla="val 50000"/>
              <a:gd name="adj2" fmla="val 138885"/>
            </a:avLst>
          </a:prstGeom>
          <a:gradFill rotWithShape="0">
            <a:gsLst>
              <a:gs pos="0">
                <a:srgbClr val="6699ff"/>
              </a:gs>
              <a:gs pos="100000">
                <a:srgbClr val="2f47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9"/>
          <p:cNvSpPr/>
          <p:nvPr/>
        </p:nvSpPr>
        <p:spPr>
          <a:xfrm>
            <a:off x="0" y="3429000"/>
            <a:ext cx="5334120" cy="685800"/>
          </a:xfrm>
          <a:prstGeom prst="leftArrow">
            <a:avLst>
              <a:gd name="adj1" fmla="val 50000"/>
              <a:gd name="adj2" fmla="val 194449"/>
            </a:avLst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30"/>
          <p:cNvSpPr/>
          <p:nvPr/>
        </p:nvSpPr>
        <p:spPr>
          <a:xfrm>
            <a:off x="7467480" y="3505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31"/>
          <p:cNvSpPr/>
          <p:nvPr/>
        </p:nvSpPr>
        <p:spPr>
          <a:xfrm>
            <a:off x="6629400" y="3048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32"/>
          <p:cNvSpPr/>
          <p:nvPr/>
        </p:nvSpPr>
        <p:spPr>
          <a:xfrm>
            <a:off x="5257800" y="3429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3"/>
          <p:cNvSpPr/>
          <p:nvPr/>
        </p:nvSpPr>
        <p:spPr>
          <a:xfrm>
            <a:off x="6172200" y="3429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4"/>
          <p:cNvSpPr/>
          <p:nvPr/>
        </p:nvSpPr>
        <p:spPr>
          <a:xfrm>
            <a:off x="6553080" y="3276720"/>
            <a:ext cx="876600" cy="91440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5"/>
          <p:cNvSpPr/>
          <p:nvPr/>
        </p:nvSpPr>
        <p:spPr>
          <a:xfrm>
            <a:off x="1143000" y="3429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36"/>
          <p:cNvSpPr/>
          <p:nvPr/>
        </p:nvSpPr>
        <p:spPr>
          <a:xfrm>
            <a:off x="4191120" y="3276720"/>
            <a:ext cx="876240" cy="9144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37"/>
          <p:cNvSpPr/>
          <p:nvPr/>
        </p:nvSpPr>
        <p:spPr>
          <a:xfrm>
            <a:off x="1905120" y="2895480"/>
            <a:ext cx="1600200" cy="1486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38"/>
          <p:cNvSpPr/>
          <p:nvPr/>
        </p:nvSpPr>
        <p:spPr>
          <a:xfrm>
            <a:off x="2362320" y="3276720"/>
            <a:ext cx="685800" cy="68580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39"/>
          <p:cNvSpPr/>
          <p:nvPr/>
        </p:nvSpPr>
        <p:spPr>
          <a:xfrm>
            <a:off x="2590920" y="3429000"/>
            <a:ext cx="342720" cy="3430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1"/>
          <p:cNvSpPr/>
          <p:nvPr/>
        </p:nvSpPr>
        <p:spPr>
          <a:xfrm flipV="1">
            <a:off x="7848720" y="4266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2"/>
          <p:cNvSpPr/>
          <p:nvPr/>
        </p:nvSpPr>
        <p:spPr>
          <a:xfrm flipV="1">
            <a:off x="4572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3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4"/>
          <p:cNvSpPr/>
          <p:nvPr/>
        </p:nvSpPr>
        <p:spPr>
          <a:xfrm>
            <a:off x="13716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5"/>
          <p:cNvSpPr/>
          <p:nvPr/>
        </p:nvSpPr>
        <p:spPr>
          <a:xfrm>
            <a:off x="198108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6"/>
          <p:cNvSpPr/>
          <p:nvPr/>
        </p:nvSpPr>
        <p:spPr>
          <a:xfrm>
            <a:off x="266688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7"/>
          <p:cNvSpPr/>
          <p:nvPr/>
        </p:nvSpPr>
        <p:spPr>
          <a:xfrm>
            <a:off x="35812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8"/>
          <p:cNvSpPr/>
          <p:nvPr/>
        </p:nvSpPr>
        <p:spPr>
          <a:xfrm>
            <a:off x="54100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9"/>
          <p:cNvSpPr/>
          <p:nvPr/>
        </p:nvSpPr>
        <p:spPr>
          <a:xfrm>
            <a:off x="632448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0"/>
          <p:cNvSpPr/>
          <p:nvPr/>
        </p:nvSpPr>
        <p:spPr>
          <a:xfrm>
            <a:off x="7010280" y="259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1"/>
          <p:cNvSpPr/>
          <p:nvPr/>
        </p:nvSpPr>
        <p:spPr>
          <a:xfrm>
            <a:off x="7848720" y="2895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35812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468360" y="5661000"/>
            <a:ext cx="136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5" descr="CCS Logo High Res 2"/>
          <p:cNvPicPr/>
          <p:nvPr/>
        </p:nvPicPr>
        <p:blipFill>
          <a:blip r:embed="rId1"/>
          <a:stretch/>
        </p:blipFill>
        <p:spPr>
          <a:xfrm>
            <a:off x="250920" y="2349360"/>
            <a:ext cx="8650080" cy="1946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6"/>
          <p:cNvSpPr/>
          <p:nvPr/>
        </p:nvSpPr>
        <p:spPr>
          <a:xfrm>
            <a:off x="2627280" y="4653000"/>
            <a:ext cx="504180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frica’s knowledge bridge to Ch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03640" y="62373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e for Chinese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95280" y="1052640"/>
            <a:ext cx="8388360" cy="56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Rounded MT Bold"/>
              </a:rPr>
              <a:t>Some questions to ponder this afterno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How will China’s growth impact u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What are China’s motivations in Afr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Can Africa compete commerciall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What drives developmen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s Africa’s approach to development flaw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What is China’s economic destin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What if China ran Afr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03640" y="62373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e for Chinese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826920" y="1557360"/>
            <a:ext cx="763272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I see growing on the horizon the greater peril than Germany or Japan ever were…our terrible enemy, Americ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Enoch Powell (1912-1998), 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British 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03640" y="62373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e for Chinese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549360"/>
            <a:ext cx="7993080" cy="10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China’s Impact on the Global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hift of manufactu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Consumer 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Commodity “super cycl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Emerging multi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China and the global value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Intense compet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Marginalization of S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203640" y="62373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e for Chinese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71640" y="227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Is Africa a continent that shuns rather than embraces foreign compet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203640" y="62373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e for Chinese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042920" y="83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China’s Emerging Multinat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Фото: AFP"/>
          <p:cNvPicPr/>
          <p:nvPr/>
        </p:nvPicPr>
        <p:blipFill>
          <a:blip r:embed="rId1"/>
          <a:stretch/>
        </p:blipFill>
        <p:spPr>
          <a:xfrm>
            <a:off x="1187280" y="1700280"/>
            <a:ext cx="2521080" cy="191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ndex_B_01"/>
          <p:cNvPicPr/>
          <p:nvPr/>
        </p:nvPicPr>
        <p:blipFill>
          <a:blip r:embed="rId2"/>
          <a:stretch/>
        </p:blipFill>
        <p:spPr>
          <a:xfrm>
            <a:off x="4427640" y="2205000"/>
            <a:ext cx="30240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932360" y="3716280"/>
            <a:ext cx="1943280" cy="189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44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03640" y="62373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e for Chinese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042920" y="907920"/>
            <a:ext cx="7632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But Chinese SOE firms are largely non-collaborative in nature.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</a:rPr>
              <a:t>Politically determined busines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</a:rPr>
              <a:t>Do they seek prof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</a:rPr>
              <a:t>A mercantilist approach to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51280" y="6093000"/>
            <a:ext cx="203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e for Chinese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56610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67658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2b2b2"/>
                </a:solidFill>
                <a:latin typeface="Arial"/>
              </a:rPr>
              <a:t>China’s Growth Traj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176720" cy="3773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1"/>
          <p:cNvSpPr/>
          <p:nvPr/>
        </p:nvSpPr>
        <p:spPr>
          <a:xfrm>
            <a:off x="5435640" y="544500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www.g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03640" y="623736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e for Chinese Stu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042920" y="907920"/>
            <a:ext cx="7632720" cy="49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Questioning the WBM….                      A new model fo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</a:rPr>
              <a:t>Q. What if the Chinese ran Malaw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</a:rPr>
              <a:t>Q. The role of the state as a driver of develop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"/>
              </a:rPr>
              <a:t>Q. Reaganism vs Deng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08:36:45Z</dcterms:created>
  <dc:creator>Martin Davies</dc:creator>
  <dc:description/>
  <dc:language>en-US</dc:language>
  <cp:lastModifiedBy>mciis</cp:lastModifiedBy>
  <dcterms:modified xsi:type="dcterms:W3CDTF">2011-12-08T20:38:57Z</dcterms:modified>
  <cp:revision>716</cp:revision>
  <dc:subject/>
  <dc:title>ac</dc:title>
</cp:coreProperties>
</file>